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6AFC7-4248-427E-9F09-B094FEE78B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29E58-2E21-4EB3-837A-C762E09C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C1023-E108-40ED-9217-2163E0C12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if they like to do…what they like to eat, drink,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A21F5-EA58-4F15-9652-F06953D5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485AD-A179-4E65-BC8E-374F291D6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a phrase from the dialog and they decide of Luci, Pati o Chavo sai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2426E-E585-441A-AADB-3548E35E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comprehension check questions-Complete answer..  If can’t answer ask yes/no quesitons. If can’t answer ask either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E8B70-E540-4289-BB28-F3E29FFF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read dialog based on student focus level.  If into it, reread again changing parts.  If not ask more questions to give more inp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9FF9C-DD65-4759-9232-BEA37952B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if they like to do these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4FCEA-4E6A-4423-BFFF-E25E4E3B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 with flash cards the rest of the verbs: 12-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f time have students match the word to the verb.  (Have a competition to see who can do it the fas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5AAAF-8469-4214-A863-62B289CB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students which sport they like, love, hate, interests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55EC-6571-4CFD-B498-B5BAD78B1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E7C-2990-4975-A5FA-DABDEEB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74A-23B5-42D6-988A-2C19F41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9FA-DC1A-4923-8593-D2473A83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CB8-F316-4A84-9CE8-E15E1E2B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494-5343-47F0-802F-9A07FB3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20F-A06C-4336-8223-DC34AD8E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FB3-A731-4979-8C7E-EBC1BE7A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6A3-849E-4BFA-B98C-BD5CDDCB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023-438E-4C72-8D6D-7CA68D50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0EA-5B44-46CE-B2BD-C98C667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71C-8399-47FD-BCEA-2BC4D3E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37B-46E5-49E9-95A7-3A4888F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97B88-F89F-4A3F-A730-37E487C0B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1B3DF-7877-416A-BFB2-C225C6AEF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4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25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jpeg"/><Relationship Id="rId3" Type="http://schemas.openxmlformats.org/officeDocument/2006/relationships/image" Target="../media/image1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RENDEMOS HO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WE ARE LEARNING TODAY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Learn to say more activities you like/love/don’t like/hate (–er &amp; -ir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8"/>
          <p:cNvSpPr/>
          <p:nvPr/>
        </p:nvSpPr>
        <p:spPr>
          <a:xfrm>
            <a:off x="3429000" y="0"/>
            <a:ext cx="2971800" cy="2362320"/>
          </a:xfrm>
          <a:prstGeom prst="wedgeEllipseCallout">
            <a:avLst>
              <a:gd name="adj1" fmla="val 4199"/>
              <a:gd name="adj2" fmla="val 68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Quién es 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400800" y="0"/>
            <a:ext cx="2743200" cy="2362320"/>
          </a:xfrm>
          <a:prstGeom prst="wedgeEllipseCallout">
            <a:avLst>
              <a:gd name="adj1" fmla="val 10208"/>
              <a:gd name="adj2" fmla="val 66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 llama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6934320" y="2759040"/>
            <a:ext cx="1981080" cy="390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2133720" cy="357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riciaReichardt.gif"/>
          <p:cNvPicPr/>
          <p:nvPr/>
        </p:nvPicPr>
        <p:blipFill>
          <a:blip r:embed="rId3"/>
          <a:stretch/>
        </p:blipFill>
        <p:spPr>
          <a:xfrm>
            <a:off x="4362480" y="2759040"/>
            <a:ext cx="1770120" cy="39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eart.jpg"/>
          <p:cNvPicPr/>
          <p:nvPr/>
        </p:nvPicPr>
        <p:blipFill>
          <a:blip r:embed="rId4"/>
          <a:stretch/>
        </p:blipFill>
        <p:spPr>
          <a:xfrm>
            <a:off x="4572000" y="1593720"/>
            <a:ext cx="816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ola Luci! ¿Cómo est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Muy bi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Estoy fenomenal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8"/>
          <p:cNvSpPr/>
          <p:nvPr/>
        </p:nvSpPr>
        <p:spPr>
          <a:xfrm>
            <a:off x="3429000" y="0"/>
            <a:ext cx="4343400" cy="2362320"/>
          </a:xfrm>
          <a:prstGeom prst="wedgeEllipseCallout">
            <a:avLst>
              <a:gd name="adj1" fmla="val -11814"/>
              <a:gd name="adj2" fmla="val 71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Chavo.  Te presento a mi amiga P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3581280" y="2949480"/>
            <a:ext cx="1981440" cy="390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533520" y="2949480"/>
            <a:ext cx="2263680" cy="357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atriciaReichardt.gif"/>
          <p:cNvPicPr/>
          <p:nvPr/>
        </p:nvPicPr>
        <p:blipFill>
          <a:blip r:embed="rId3"/>
          <a:stretch/>
        </p:blipFill>
        <p:spPr>
          <a:xfrm>
            <a:off x="6400800" y="2949480"/>
            <a:ext cx="17715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8"/>
          <p:cNvSpPr/>
          <p:nvPr/>
        </p:nvSpPr>
        <p:spPr>
          <a:xfrm>
            <a:off x="0" y="0"/>
            <a:ext cx="3429000" cy="2362320"/>
          </a:xfrm>
          <a:prstGeom prst="wedgeEllipseCallout">
            <a:avLst>
              <a:gd name="adj1" fmla="val -2777"/>
              <a:gd name="adj2" fmla="val 79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cho gusto Pa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410080" y="0"/>
            <a:ext cx="3733920" cy="2362320"/>
          </a:xfrm>
          <a:prstGeom prst="wedgeEllipseCallout">
            <a:avLst>
              <a:gd name="adj1" fmla="val 1226"/>
              <a:gd name="adj2" fmla="val 64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gualmente Chav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4114800" y="2759040"/>
            <a:ext cx="1981080" cy="390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38080" y="3097080"/>
            <a:ext cx="2133720" cy="357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atriciaReichardt.gif"/>
          <p:cNvPicPr/>
          <p:nvPr/>
        </p:nvPicPr>
        <p:blipFill>
          <a:blip r:embed="rId3"/>
          <a:stretch/>
        </p:blipFill>
        <p:spPr>
          <a:xfrm>
            <a:off x="6400800" y="2759040"/>
            <a:ext cx="1771560" cy="390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eart.jpg"/>
          <p:cNvPicPr/>
          <p:nvPr/>
        </p:nvPicPr>
        <p:blipFill>
          <a:blip r:embed="rId4"/>
          <a:stretch/>
        </p:blipFill>
        <p:spPr>
          <a:xfrm>
            <a:off x="6858000" y="1593720"/>
            <a:ext cx="68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ye Chavo. ¿Qué te gusta ha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1226"/>
              <a:gd name="adj2" fmla="val 64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es…Me gusta hacer depor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6172200" y="2949480"/>
            <a:ext cx="2438280" cy="357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0sport.gif"/>
          <p:cNvPicPr/>
          <p:nvPr/>
        </p:nvPicPr>
        <p:blipFill>
          <a:blip r:embed="rId3"/>
          <a:stretch/>
        </p:blipFill>
        <p:spPr>
          <a:xfrm>
            <a:off x="3483000" y="220356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3505320" y="3963960"/>
            <a:ext cx="1295280" cy="25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eart.jpg"/>
          <p:cNvPicPr/>
          <p:nvPr/>
        </p:nvPicPr>
        <p:blipFill>
          <a:blip r:embed="rId5"/>
          <a:stretch/>
        </p:blipFill>
        <p:spPr>
          <a:xfrm>
            <a:off x="990720" y="2362320"/>
            <a:ext cx="7048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De veras? A mí tambi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mí tambi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0sport.gif"/>
          <p:cNvPicPr/>
          <p:nvPr/>
        </p:nvPicPr>
        <p:blipFill>
          <a:blip r:embed="rId3"/>
          <a:stretch/>
        </p:blipFill>
        <p:spPr>
          <a:xfrm>
            <a:off x="2546280" y="145728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3881520" y="2949480"/>
            <a:ext cx="15285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8"/>
          <p:cNvSpPr/>
          <p:nvPr/>
        </p:nvSpPr>
        <p:spPr>
          <a:xfrm>
            <a:off x="0" y="0"/>
            <a:ext cx="4419720" cy="2362320"/>
          </a:xfrm>
          <a:prstGeom prst="wedgeEllipseCallout">
            <a:avLst>
              <a:gd name="adj1" fmla="val 2953"/>
              <a:gd name="adj2" fmla="val 71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ye Chavo, ¿te gusta ir de compr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181480" y="0"/>
            <a:ext cx="3962520" cy="2666880"/>
          </a:xfrm>
          <a:prstGeom prst="wedgeEllipseCallout">
            <a:avLst>
              <a:gd name="adj1" fmla="val 27782"/>
              <a:gd name="adj2" fmla="val 74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, no me interesa ir de compr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3881520" y="2949480"/>
            <a:ext cx="1528560" cy="371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3881520" y="0"/>
            <a:ext cx="2154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tampo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me interesa. Pero a Luci sí.  A ella le encanta ir de comp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6084720" y="0"/>
            <a:ext cx="21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a_014_lucy_decal__27684.gif"/>
          <p:cNvPicPr/>
          <p:nvPr/>
        </p:nvPicPr>
        <p:blipFill>
          <a:blip r:embed="rId4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9"/>
          <p:cNvSpPr/>
          <p:nvPr/>
        </p:nvSpPr>
        <p:spPr>
          <a:xfrm>
            <a:off x="5029200" y="2492280"/>
            <a:ext cx="1523880" cy="91440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8"/>
          <p:cNvSpPr/>
          <p:nvPr/>
        </p:nvSpPr>
        <p:spPr>
          <a:xfrm>
            <a:off x="380880" y="0"/>
            <a:ext cx="403884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vo, ¿qué mas te gusta ha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976480" y="3733920"/>
            <a:ext cx="342432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9"/>
          <p:cNvSpPr/>
          <p:nvPr/>
        </p:nvSpPr>
        <p:spPr>
          <a:xfrm>
            <a:off x="4419720" y="0"/>
            <a:ext cx="3429000" cy="2362320"/>
          </a:xfrm>
          <a:prstGeom prst="wedgeEllipseCallout">
            <a:avLst>
              <a:gd name="adj1" fmla="val 31888"/>
              <a:gd name="adj2" fmla="val 68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es…a mí me encanta dorm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omer sleep.gif"/>
          <p:cNvPicPr/>
          <p:nvPr/>
        </p:nvPicPr>
        <p:blipFill>
          <a:blip r:embed="rId4"/>
          <a:stretch/>
        </p:blipFill>
        <p:spPr>
          <a:xfrm>
            <a:off x="7238880" y="822240"/>
            <a:ext cx="221004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bes ¿Cómo se dicen los verbos en españ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image-13-for-the-great-purple-run-2009-gallery-408879152.jpg"/>
          <p:cNvPicPr/>
          <p:nvPr/>
        </p:nvPicPr>
        <p:blipFill>
          <a:blip r:embed="rId1"/>
          <a:stretch/>
        </p:blipFill>
        <p:spPr>
          <a:xfrm>
            <a:off x="152280" y="1417680"/>
            <a:ext cx="2210040" cy="16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drink water"/>
          <p:cNvPicPr/>
          <p:nvPr/>
        </p:nvPicPr>
        <p:blipFill>
          <a:blip r:embed="rId2"/>
          <a:stretch/>
        </p:blipFill>
        <p:spPr>
          <a:xfrm>
            <a:off x="2362320" y="1463760"/>
            <a:ext cx="3429000" cy="211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eating-disorder"/>
          <p:cNvPicPr/>
          <p:nvPr/>
        </p:nvPicPr>
        <p:blipFill>
          <a:blip r:embed="rId3"/>
          <a:stretch/>
        </p:blipFill>
        <p:spPr>
          <a:xfrm>
            <a:off x="6629400" y="146376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rite-letter"/>
          <p:cNvPicPr/>
          <p:nvPr/>
        </p:nvPicPr>
        <p:blipFill>
          <a:blip r:embed="rId4"/>
          <a:stretch/>
        </p:blipFill>
        <p:spPr>
          <a:xfrm>
            <a:off x="2819520" y="4456080"/>
            <a:ext cx="2971800" cy="229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eading%20a%20book"/>
          <p:cNvPicPr/>
          <p:nvPr/>
        </p:nvPicPr>
        <p:blipFill>
          <a:blip r:embed="rId5"/>
          <a:stretch/>
        </p:blipFill>
        <p:spPr>
          <a:xfrm>
            <a:off x="6405480" y="4267080"/>
            <a:ext cx="228132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0" y="443880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-8921"/>
              <a:gd name="adj2" fmla="val 59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mí 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o a Luci no.  A ella no le gusta dormir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omer sleep.gif"/>
          <p:cNvPicPr/>
          <p:nvPr/>
        </p:nvPicPr>
        <p:blipFill>
          <a:blip r:embed="rId4"/>
          <a:stretch/>
        </p:blipFill>
        <p:spPr>
          <a:xfrm>
            <a:off x="5834160" y="457200"/>
            <a:ext cx="2209680" cy="1539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9"/>
          <p:cNvSpPr/>
          <p:nvPr/>
        </p:nvSpPr>
        <p:spPr>
          <a:xfrm>
            <a:off x="5029200" y="2492280"/>
            <a:ext cx="1523880" cy="914400"/>
          </a:xfrm>
          <a:prstGeom prst="wedgeEllipseCallout">
            <a:avLst>
              <a:gd name="adj1" fmla="val -43185"/>
              <a:gd name="adj2" fmla="val 95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8"/>
          <p:cNvSpPr/>
          <p:nvPr/>
        </p:nvSpPr>
        <p:spPr>
          <a:xfrm>
            <a:off x="0" y="0"/>
            <a:ext cx="6939000" cy="2666880"/>
          </a:xfrm>
          <a:prstGeom prst="wedgeEllipseCallout">
            <a:avLst>
              <a:gd name="adj1" fmla="val 10430"/>
              <a:gd name="adj2" fmla="val 78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es…no es verdad.  ¡Me gusta dormir, pero no me encan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6939000" y="2949480"/>
            <a:ext cx="2205000" cy="322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PatriciaReichardt.gif"/>
          <p:cNvPicPr/>
          <p:nvPr/>
        </p:nvPicPr>
        <p:blipFill>
          <a:blip r:embed="rId2"/>
          <a:stretch/>
        </p:blipFill>
        <p:spPr>
          <a:xfrm>
            <a:off x="70488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Homer sleep.gif"/>
          <p:cNvPicPr/>
          <p:nvPr/>
        </p:nvPicPr>
        <p:blipFill>
          <a:blip r:embed="rId4"/>
          <a:stretch/>
        </p:blipFill>
        <p:spPr>
          <a:xfrm>
            <a:off x="6400800" y="609480"/>
            <a:ext cx="22096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8"/>
          <p:cNvSpPr/>
          <p:nvPr/>
        </p:nvSpPr>
        <p:spPr>
          <a:xfrm>
            <a:off x="0" y="0"/>
            <a:ext cx="4419720" cy="2666880"/>
          </a:xfrm>
          <a:prstGeom prst="wedgeEllipseCallout">
            <a:avLst>
              <a:gd name="adj1" fmla="val 7953"/>
              <a:gd name="adj2" fmla="val 83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ye Chavo.  ¿Te gustaría ir a la bolera conmigo y Luci este fin de se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6400800" y="2949480"/>
            <a:ext cx="2743200" cy="401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PatriciaReichardt.gif"/>
          <p:cNvPicPr/>
          <p:nvPr/>
        </p:nvPicPr>
        <p:blipFill>
          <a:blip r:embed="rId2"/>
          <a:stretch/>
        </p:blipFill>
        <p:spPr>
          <a:xfrm>
            <a:off x="30492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Bowling.gif"/>
          <p:cNvPicPr/>
          <p:nvPr/>
        </p:nvPicPr>
        <p:blipFill>
          <a:blip r:embed="rId4"/>
          <a:stretch/>
        </p:blipFill>
        <p:spPr>
          <a:xfrm>
            <a:off x="4021200" y="127080"/>
            <a:ext cx="2379600" cy="25398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í me gustaría ir! ¿Cuá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572000" y="2492280"/>
            <a:ext cx="1523880" cy="914400"/>
          </a:xfrm>
          <a:prstGeom prst="wedgeEllipseCallout">
            <a:avLst>
              <a:gd name="adj1" fmla="val -19236"/>
              <a:gd name="adj2" fmla="val 69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¿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8"/>
          <p:cNvSpPr/>
          <p:nvPr/>
        </p:nvSpPr>
        <p:spPr>
          <a:xfrm>
            <a:off x="0" y="0"/>
            <a:ext cx="4419720" cy="2666880"/>
          </a:xfrm>
          <a:prstGeom prst="wedgeEllipseCallout">
            <a:avLst>
              <a:gd name="adj1" fmla="val 7953"/>
              <a:gd name="adj2" fmla="val 83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 sábado por la ta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6400800" y="2949480"/>
            <a:ext cx="2743200" cy="401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PatriciaReichardt.gif"/>
          <p:cNvPicPr/>
          <p:nvPr/>
        </p:nvPicPr>
        <p:blipFill>
          <a:blip r:embed="rId2"/>
          <a:stretch/>
        </p:blipFill>
        <p:spPr>
          <a:xfrm>
            <a:off x="304920" y="2949480"/>
            <a:ext cx="1962000" cy="390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a_014_lucy_decal__27684.gif"/>
          <p:cNvPicPr/>
          <p:nvPr/>
        </p:nvPicPr>
        <p:blipFill>
          <a:blip r:embed="rId3"/>
          <a:stretch/>
        </p:blipFill>
        <p:spPr>
          <a:xfrm>
            <a:off x="2708280" y="3505320"/>
            <a:ext cx="3692520" cy="3152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Bowling.gif"/>
          <p:cNvPicPr/>
          <p:nvPr/>
        </p:nvPicPr>
        <p:blipFill>
          <a:blip r:embed="rId4"/>
          <a:stretch/>
        </p:blipFill>
        <p:spPr>
          <a:xfrm>
            <a:off x="4021200" y="127080"/>
            <a:ext cx="2379600" cy="25398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í claro!  ¡Puedo ir el sáb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images.jpg"/>
          <p:cNvPicPr/>
          <p:nvPr/>
        </p:nvPicPr>
        <p:blipFill>
          <a:blip r:embed="rId5"/>
          <a:stretch/>
        </p:blipFill>
        <p:spPr>
          <a:xfrm>
            <a:off x="2266920" y="1641600"/>
            <a:ext cx="108576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8"/>
          <p:cNvSpPr/>
          <p:nvPr/>
        </p:nvSpPr>
        <p:spPr>
          <a:xfrm>
            <a:off x="838080" y="0"/>
            <a:ext cx="5334120" cy="2362320"/>
          </a:xfrm>
          <a:prstGeom prst="wedgeEllipseCallout">
            <a:avLst>
              <a:gd name="adj1" fmla="val 12291"/>
              <a:gd name="adj2" fmla="val 7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erfecto! ¡Hasta el sábado por la tar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peppermint_patty.gif"/>
          <p:cNvPicPr/>
          <p:nvPr/>
        </p:nvPicPr>
        <p:blipFill>
          <a:blip r:embed="rId1"/>
          <a:stretch/>
        </p:blipFill>
        <p:spPr>
          <a:xfrm>
            <a:off x="3486240" y="2895480"/>
            <a:ext cx="2286000" cy="375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6172200" y="2895480"/>
            <a:ext cx="2452680" cy="3570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ig_lucy.jpg"/>
          <p:cNvPicPr/>
          <p:nvPr/>
        </p:nvPicPr>
        <p:blipFill>
          <a:blip r:embed="rId3"/>
          <a:stretch/>
        </p:blipFill>
        <p:spPr>
          <a:xfrm>
            <a:off x="228600" y="3382920"/>
            <a:ext cx="2971800" cy="3475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5867280" y="0"/>
            <a:ext cx="3276720" cy="2362320"/>
          </a:xfrm>
          <a:prstGeom prst="wedgeEllipseCallout">
            <a:avLst>
              <a:gd name="adj1" fmla="val 9574"/>
              <a:gd name="adj2" fmla="val 7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asta luego Luci y Pa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8"/>
          <p:cNvSpPr/>
          <p:nvPr/>
        </p:nvSpPr>
        <p:spPr>
          <a:xfrm flipH="1">
            <a:off x="304920" y="0"/>
            <a:ext cx="4572000" cy="2362320"/>
          </a:xfrm>
          <a:prstGeom prst="wedgeEllipseCallout">
            <a:avLst>
              <a:gd name="adj1" fmla="val 16106"/>
              <a:gd name="adj2" fmla="val 78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¡U la 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7086600" y="822240"/>
            <a:ext cx="1752480" cy="302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ucy_p.jpg"/>
          <p:cNvPicPr/>
          <p:nvPr/>
        </p:nvPicPr>
        <p:blipFill>
          <a:blip r:embed="rId2"/>
          <a:stretch/>
        </p:blipFill>
        <p:spPr>
          <a:xfrm>
            <a:off x="2400480" y="310824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heart.jpg"/>
          <p:cNvPicPr/>
          <p:nvPr/>
        </p:nvPicPr>
        <p:blipFill>
          <a:blip r:embed="rId3"/>
          <a:stretch/>
        </p:blipFill>
        <p:spPr>
          <a:xfrm>
            <a:off x="3124080" y="822240"/>
            <a:ext cx="118116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Peppermint Patty.jpg"/>
          <p:cNvPicPr/>
          <p:nvPr/>
        </p:nvPicPr>
        <p:blipFill>
          <a:blip r:embed="rId4"/>
          <a:stretch/>
        </p:blipFill>
        <p:spPr>
          <a:xfrm>
            <a:off x="-1638360" y="2577960"/>
            <a:ext cx="327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ién lo d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Entien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7621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Cha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Le gusta 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Pat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Le gusta…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 hacer a Luc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le gustaría hacer a Pati?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Cuándo le gustaría …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A Chavo le gustaría 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Puedo ir o no pue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Qué pasó con Luc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Cómo está?  ¿Está feliz? ¿Está aburrida? ¿Está aburrida o celos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 ¿a tí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te gusta hac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hacer depo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ir de compr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dorm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Te gusta ir a la bol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0sport.gif"/>
          <p:cNvPicPr/>
          <p:nvPr/>
        </p:nvPicPr>
        <p:blipFill>
          <a:blip r:embed="rId1"/>
          <a:stretch/>
        </p:blipFill>
        <p:spPr>
          <a:xfrm>
            <a:off x="0" y="4038480"/>
            <a:ext cx="2635200" cy="149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1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omer sleep.gif"/>
          <p:cNvPicPr/>
          <p:nvPr/>
        </p:nvPicPr>
        <p:blipFill>
          <a:blip r:embed="rId3"/>
          <a:stretch/>
        </p:blipFill>
        <p:spPr>
          <a:xfrm>
            <a:off x="5878440" y="4343400"/>
            <a:ext cx="2808360" cy="1957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Bowling.gif"/>
          <p:cNvPicPr/>
          <p:nvPr/>
        </p:nvPicPr>
        <p:blipFill>
          <a:blip r:embed="rId4"/>
          <a:stretch/>
        </p:blipFill>
        <p:spPr>
          <a:xfrm>
            <a:off x="3352680" y="4038480"/>
            <a:ext cx="2379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eer el dialog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- La ma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vo-Los Ch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- Las Ch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al estos verb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3D_Movie_Logo_3.jpg"/>
          <p:cNvPicPr/>
          <p:nvPr/>
        </p:nvPicPr>
        <p:blipFill>
          <a:blip r:embed="rId1"/>
          <a:stretch/>
        </p:blipFill>
        <p:spPr>
          <a:xfrm>
            <a:off x="6608880" y="3805200"/>
            <a:ext cx="2154240" cy="20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open door"/>
          <p:cNvPicPr/>
          <p:nvPr/>
        </p:nvPicPr>
        <p:blipFill>
          <a:blip r:embed="rId2"/>
          <a:stretch/>
        </p:blipFill>
        <p:spPr>
          <a:xfrm>
            <a:off x="258840" y="1638360"/>
            <a:ext cx="21794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aprender.jpg"/>
          <p:cNvPicPr/>
          <p:nvPr/>
        </p:nvPicPr>
        <p:blipFill>
          <a:blip r:embed="rId3"/>
          <a:stretch/>
        </p:blipFill>
        <p:spPr>
          <a:xfrm>
            <a:off x="2895480" y="39625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omer sleep.gif"/>
          <p:cNvPicPr/>
          <p:nvPr/>
        </p:nvPicPr>
        <p:blipFill>
          <a:blip r:embed="rId4"/>
          <a:stretch/>
        </p:blipFill>
        <p:spPr>
          <a:xfrm>
            <a:off x="2895480" y="1303200"/>
            <a:ext cx="3591000" cy="250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rtf-going-to-school"/>
          <p:cNvPicPr/>
          <p:nvPr/>
        </p:nvPicPr>
        <p:blipFill>
          <a:blip r:embed="rId5"/>
          <a:stretch/>
        </p:blipFill>
        <p:spPr>
          <a:xfrm>
            <a:off x="6442200" y="1417680"/>
            <a:ext cx="270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ás verbos nue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lash 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EA para el vierne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(HW due on Frida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Re-read dialog between Pati, Luci, Cha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I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ut out the verb pictures along the 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Cut out the verb phrases 1-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Paste the verbs on the BACK of the pi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Go through the flash cards 4xs or more.  Put aside the verb phrases you know and go through only the pictures that you don’t k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BRING YOUR CARDS NEX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Memorize the class room phrases for the test on classroom phrases next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di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read dialog, make flash cards, study classroom phrases-Quiz (see hand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y estos verb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miramar.gif"/>
          <p:cNvPicPr/>
          <p:nvPr/>
        </p:nvPicPr>
        <p:blipFill>
          <a:blip r:embed="rId1"/>
          <a:stretch/>
        </p:blipFill>
        <p:spPr>
          <a:xfrm>
            <a:off x="0" y="1417680"/>
            <a:ext cx="228600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omersetShoppingCenter_2.jpg"/>
          <p:cNvPicPr/>
          <p:nvPr/>
        </p:nvPicPr>
        <p:blipFill>
          <a:blip r:embed="rId2"/>
          <a:stretch/>
        </p:blipFill>
        <p:spPr>
          <a:xfrm>
            <a:off x="1028880" y="388620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o out with friends 2.jpg"/>
          <p:cNvPicPr/>
          <p:nvPr/>
        </p:nvPicPr>
        <p:blipFill>
          <a:blip r:embed="rId3"/>
          <a:stretch/>
        </p:blipFill>
        <p:spPr>
          <a:xfrm>
            <a:off x="2743200" y="1417680"/>
            <a:ext cx="246852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go on an outing.jpg"/>
          <p:cNvPicPr/>
          <p:nvPr/>
        </p:nvPicPr>
        <p:blipFill>
          <a:blip r:embed="rId4"/>
          <a:stretch/>
        </p:blipFill>
        <p:spPr>
          <a:xfrm>
            <a:off x="4622760" y="376884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omework1.jpg"/>
          <p:cNvPicPr/>
          <p:nvPr/>
        </p:nvPicPr>
        <p:blipFill>
          <a:blip r:embed="rId5"/>
          <a:stretch/>
        </p:blipFill>
        <p:spPr>
          <a:xfrm>
            <a:off x="5479920" y="1249200"/>
            <a:ext cx="34038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se dice “sport” en españ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0sport.gif"/>
          <p:cNvPicPr/>
          <p:nvPr/>
        </p:nvPicPr>
        <p:blipFill>
          <a:blip r:embed="rId1"/>
          <a:stretch/>
        </p:blipFill>
        <p:spPr>
          <a:xfrm>
            <a:off x="809640" y="1941480"/>
            <a:ext cx="55911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 hacer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-er, -ir verb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PatriciaReichardt.gif"/>
          <p:cNvPicPr/>
          <p:nvPr/>
        </p:nvPicPr>
        <p:blipFill>
          <a:blip r:embed="rId1"/>
          <a:stretch/>
        </p:blipFill>
        <p:spPr>
          <a:xfrm flipH="1">
            <a:off x="3503520" y="2992320"/>
            <a:ext cx="1679760" cy="268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6324480" y="2666880"/>
            <a:ext cx="2057400" cy="301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 flipH="1">
            <a:off x="456840" y="2666880"/>
            <a:ext cx="21826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va a la escuela.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r Sra. Frost (by Ms. Fr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1st day of school Charlie.jpg"/>
          <p:cNvPicPr/>
          <p:nvPr/>
        </p:nvPicPr>
        <p:blipFill>
          <a:blip r:embed="rId1"/>
          <a:stretch/>
        </p:blipFill>
        <p:spPr>
          <a:xfrm>
            <a:off x="1676520" y="1440000"/>
            <a:ext cx="5410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ci y su amiga Pati entra en la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tes.jpg"/>
          <p:cNvPicPr/>
          <p:nvPr/>
        </p:nvPicPr>
        <p:blipFill>
          <a:blip r:embed="rId1"/>
          <a:stretch/>
        </p:blipFill>
        <p:spPr>
          <a:xfrm>
            <a:off x="380880" y="1298520"/>
            <a:ext cx="5002200" cy="538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triciaReichardt.gif"/>
          <p:cNvPicPr/>
          <p:nvPr/>
        </p:nvPicPr>
        <p:blipFill>
          <a:blip r:embed="rId2"/>
          <a:stretch/>
        </p:blipFill>
        <p:spPr>
          <a:xfrm>
            <a:off x="7113600" y="2286000"/>
            <a:ext cx="1217520" cy="26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4648320" y="2031840"/>
            <a:ext cx="24652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entra en la escuel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tes.jpg"/>
          <p:cNvPicPr/>
          <p:nvPr/>
        </p:nvPicPr>
        <p:blipFill>
          <a:blip r:embed="rId1"/>
          <a:stretch/>
        </p:blipFill>
        <p:spPr>
          <a:xfrm>
            <a:off x="1523880" y="1066680"/>
            <a:ext cx="5383440" cy="579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609480" y="5062680"/>
            <a:ext cx="9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9:25:53Z</dcterms:created>
  <dc:creator>Mac</dc:creator>
  <dc:description/>
  <dc:language>en-US</dc:language>
  <cp:lastModifiedBy>Mac</cp:lastModifiedBy>
  <dcterms:modified xsi:type="dcterms:W3CDTF">2011-10-10T13:26:08Z</dcterms:modified>
  <cp:revision>61</cp:revision>
  <dc:subject/>
  <dc:title>Slide 1</dc:title>
</cp:coreProperties>
</file>